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DCE-831F-48E4-976C-AD17ABF6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844-368E-4126-ACA3-5751C5E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CE1-EE96-45EE-B0F5-C4979C38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5F7-A5A4-40DC-A873-E678DA5A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A59F-137B-4538-BB4F-28B9144F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0A8-A5A9-4C35-964C-10CFD8B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1FFC-E160-4F9E-98B7-3AE63C9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AA0-203C-48CF-9CA6-4663A73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3B35-1C8F-444C-9EB0-824EC55F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1561-6EBC-438E-BABB-597F28C0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C76C-4BE8-400C-9E31-3540413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34E-C92A-4283-97AC-A34D8957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A709-8014-4F64-BF13-5BF2D22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C5D2-1B86-47C9-852A-819A0FC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526B-1E5C-45CB-BF93-E2F4D0A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49ED-DECD-40D8-A2D0-FA36D950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9062-3E36-46CF-94A0-EFBA787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069-E5EC-4EC3-8FFB-EF612CA8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A80-D62F-4AAD-9E0D-43C424E4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12F-65AF-47F8-A5B1-CF2FCE5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D89-206C-4212-8756-B87274E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099-1BF0-4E90-B391-CE465AC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41C-988B-496E-A4DC-7F65920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167-D527-4A8B-BEAA-E1E9666F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934A-5969-48E4-BB76-84215CAB90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77EF-8831-43CF-B9BF-EB94F0E714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severns@aisd.ne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pedia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Using Wikis to Promote Your Library Resources and Program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zanne Sev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ian, James Bowie H.S. – Arlington, T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sseverns@aisd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bowielibrary.wikispac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’s a Wiki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ebsite where people can edit the page by clicking on the edit tab if it is unlocked. These same people may be able to post to a discussion board if it’s offe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ikipe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erhaps the most popular wiki of them all though they’ve locked a lot of pages du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id she say Wikipedia???</a:t>
            </a:r>
            <a:r>
              <a:rPr b="0" lang="en-US" sz="3200" spc="-1" strike="noStrike">
                <a:solidFill>
                  <a:srgbClr val="ffffff"/>
                </a:solidFill>
                <a:latin typeface="Mistr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4" descr="MP900178843[1]"/>
          <p:cNvPicPr/>
          <p:nvPr/>
        </p:nvPicPr>
        <p:blipFill>
          <a:blip r:embed="rId2"/>
          <a:stretch/>
        </p:blipFill>
        <p:spPr>
          <a:xfrm>
            <a:off x="6095880" y="3809880"/>
            <a:ext cx="2027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Restri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647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Restric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Use as a website with no editing or discussion bo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ewhat restric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Use as a website with discussion board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st restric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Let others join and edit pages or post to discussion bo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MC900441437[1]"/>
          <p:cNvPicPr/>
          <p:nvPr/>
        </p:nvPicPr>
        <p:blipFill>
          <a:blip r:embed="rId1"/>
          <a:stretch/>
        </p:blipFill>
        <p:spPr>
          <a:xfrm>
            <a:off x="7467480" y="228600"/>
            <a:ext cx="1505160" cy="150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900441436[1]"/>
          <p:cNvPicPr/>
          <p:nvPr/>
        </p:nvPicPr>
        <p:blipFill>
          <a:blip r:embed="rId2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 Why Bothe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s can be used to provide pages for groups/classes to collaborate and post information they’ve found, ask question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soar2newheights.wikispaces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nding Web 2.0 tool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o embed in your website or wiki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web20tools.wetpaint.c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www.go2web20.net/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e last page of handout, to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7" descr="MC900230425[1]"/>
          <p:cNvPicPr/>
          <p:nvPr/>
        </p:nvPicPr>
        <p:blipFill>
          <a:blip r:embed="rId1"/>
          <a:stretch/>
        </p:blipFill>
        <p:spPr>
          <a:xfrm>
            <a:off x="3886200" y="3722760"/>
            <a:ext cx="2092320" cy="1495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1"/>
          <p:cNvSpPr/>
          <p:nvPr/>
        </p:nvSpPr>
        <p:spPr>
          <a:xfrm>
            <a:off x="152280" y="53341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of “Beta”!!! Beta programs sometimes have glitches, disappear, or cost money later 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shackstacks.wikispaces.c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bowielibrary.wikispaces.c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joycevalenzaworkshop.wikispaces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MC900439356[1]"/>
          <p:cNvPicPr/>
          <p:nvPr/>
        </p:nvPicPr>
        <p:blipFill>
          <a:blip r:embed="rId1"/>
          <a:stretch/>
        </p:blipFill>
        <p:spPr>
          <a:xfrm>
            <a:off x="335268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dia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. Clipart. 13 June 20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7:56:42Z</dcterms:created>
  <dc:creator>sseverns</dc:creator>
  <dc:description/>
  <dc:language>en-US</dc:language>
  <cp:lastModifiedBy>AISD Employee</cp:lastModifiedBy>
  <dcterms:modified xsi:type="dcterms:W3CDTF">2012-09-18T20:47:16Z</dcterms:modified>
  <cp:revision>38</cp:revision>
  <dc:subject/>
  <dc:title>Using Wiki’s to Promote Your Library Resources and Programs</dc:title>
</cp:coreProperties>
</file>